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FDC-13E8-4152-83F1-BBB9BD0E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754-E44F-433A-95AB-EC551D53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C9E-28FB-4A14-8860-5F1A23A1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7EC-1B53-418C-B60D-365B2785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E79-60F9-4C8F-8AA0-9A4B0853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6E5-1E86-4A50-B049-A18F3957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BEB-8693-49CB-8C66-093CA5A5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78A-2DEA-44A1-B9AD-097F172B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64F-A9F2-47E8-9049-8AA96CF6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8F1-9C73-4B59-9FFF-0D1C8EA5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395-FBA6-45B8-B95D-B961E99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490-0F60-415B-AFA8-EF35481D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BF21-4957-4E54-9DCE-4EC39A1083A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000000"/>
                </a:solidFill>
                <a:latin typeface="Calibri"/>
              </a:rPr>
              <a:t>Coastal Depositional Featur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e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d by constructive wav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epositing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sand, shingle and pebbles) that has been transported from further along the coa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lie between high and low watermark and are gently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loping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wards the s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onstantly changing feature, beaches may be built up at certain times of the year, and eroded away at others, depending on the type of waves hitting them at the tim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ten this change can be season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 Be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tejamovies.com/wp-content/uploads/2010/11/Beach-31.jpg"/>
          <p:cNvPicPr/>
          <p:nvPr/>
        </p:nvPicPr>
        <p:blipFill>
          <a:blip r:embed="rId1"/>
          <a:stretch/>
        </p:blipFill>
        <p:spPr>
          <a:xfrm>
            <a:off x="811080" y="1197000"/>
            <a:ext cx="7417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p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long,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rrow ridge of s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ttached at one end to the coa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t up by long shor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rift transport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terial along the coa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a bend or break (for an estuary) in the coastline the material being carried is dropp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ever it is deposited away from the coastli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the spit builds out to sea the end is affected more by the wind and by wave currents, causing the end to curve towards the shore, to create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ok e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erial often accumulates in the area of standing water that occurs behind a spit, and this can lead to the forma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alt marsh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its can be areas where large sand dunes build up, nearer the back of 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 Sp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photoeverywhere.co.uk/east/australia/queensland121511.jpg"/>
          <p:cNvPicPr/>
          <p:nvPr/>
        </p:nvPicPr>
        <p:blipFill>
          <a:blip r:embed="rId1"/>
          <a:stretch/>
        </p:blipFill>
        <p:spPr>
          <a:xfrm>
            <a:off x="900000" y="1197000"/>
            <a:ext cx="73310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B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idge of sand that blocks off a bay or river mou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ill create a lagoon behind it is across a non-river b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hays.outcrop.org/images/press3e/figure%2017-17.jpg"/>
          <p:cNvPicPr/>
          <p:nvPr/>
        </p:nvPicPr>
        <p:blipFill>
          <a:blip r:embed="rId1"/>
          <a:stretch/>
        </p:blipFill>
        <p:spPr>
          <a:xfrm>
            <a:off x="3165480" y="3200400"/>
            <a:ext cx="601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ombol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r of deposited material linking the mainland to an is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mrtattieheid.com/Mr%20Tattie%20Heid/Shetland%202000_files/Tombolo.jpg"/>
          <p:cNvPicPr/>
          <p:nvPr/>
        </p:nvPicPr>
        <p:blipFill>
          <a:blip r:embed="rId1"/>
          <a:stretch/>
        </p:blipFill>
        <p:spPr>
          <a:xfrm>
            <a:off x="826920" y="2708280"/>
            <a:ext cx="7458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0:10:17Z</dcterms:created>
  <dc:creator>Dell_02</dc:creator>
  <dc:description/>
  <dc:language>en-US</dc:language>
  <cp:lastModifiedBy>Dell_02</cp:lastModifiedBy>
  <dcterms:modified xsi:type="dcterms:W3CDTF">2011-01-27T00:21:13Z</dcterms:modified>
  <cp:revision>2</cp:revision>
  <dc:subject/>
  <dc:title>Coastal Depositional Features</dc:title>
</cp:coreProperties>
</file>